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27600" y="-468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B1D950AD-F2D9-4885-AC78-75D5418E8A9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30320" y="8791560"/>
            <a:ext cx="12726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200" rIns="8820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B73B3E1E-EEA2-4476-8077-D757A1EC43BD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69640" y="701640"/>
            <a:ext cx="4592520" cy="3446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920" rIns="88920" tIns="44640" bIns="4464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89983EE-96B6-47BB-9822-41FA2A6CE6A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E5C1F69-F740-48CD-9CA2-3C5E2E83EF8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pecifically, you have learn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bout the Team Software Proces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launch a team using the T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guide a team in running their projects using the TS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your obligations as a launch coa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ow to introduce the TSP into an organiz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0000" y="701640"/>
            <a:ext cx="4592520" cy="34466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23400" y="4384440"/>
            <a:ext cx="50864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DE2D212-9BE2-4C70-B327-EBB31602201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927600" y="8771040"/>
            <a:ext cx="3008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71FB9D-8658-42B5-848E-A40981CEF15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73240" y="701640"/>
            <a:ext cx="4594320" cy="34466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25560" y="4383000"/>
            <a:ext cx="5083200" cy="41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DD97AD1C-A8A4-4380-B3B5-76234B4C3B8C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48D71255-566A-477A-B787-479BAEC203E0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permission@sei.cmu.edu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Course Summar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You Were He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ing systems that depend on software is among the most challenging technical endeavors of our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ftware is developed by teams. 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job of the software development team is to develop and deliver software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 high qual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ithin co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achieve these objectives, we must learn how to transition disciplined methods into an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need coaches to help them use disciplined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at You’ve Learne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this course, you were introduced to disciplined methods that a team can use to produce knowledge work, such as softwa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learned how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ly disciplined metho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ke the PSP concepts and transition them into a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seen the potential benefi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495080"/>
            <a:ext cx="780084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now completed a major step in becoming an associate coach or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till have to coach a team through the TSP cycle under the guidance of an SEI-Certified TSP Coach or Mentor coach, depending on your coaching tr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your teams use the PSP and TSP, they will be rewarded with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ing commitments that they can kee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resul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atisfaction of belonging to a successful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a large degree, the team’s success depends on you!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ass Evalu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ease complete the evaluation shee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lete the forms now and give them to an instruct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areas for course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ent on the fac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the instructors and materi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ggest course additions and dele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 areas where the timing was too slow or f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eedback session:  15 minu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378000" y="1828800"/>
            <a:ext cx="80834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© 2013 Carnegie Mellon Univers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is material is distributed by the SEI  only to course attendees for their own individual study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xcept for the U.S. government purposes described below, this material SHALL NOT be reproduced or used in any other manner without requesting formal permission from the Software Engineering Institute at </a:t>
            </a:r>
            <a:r>
              <a:rPr b="0" lang="en-US" sz="14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permission@sei.cmu.edu</a:t>
            </a: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is material was created in the performance of Federal Government Contract Number FA8721-05-C-0003 with Carnegie Mellon University for the operation of the Software Engineering Institute, a federally funded research and development center. The U.S. Government's rights to use, modify, reproduce, release, perform, display, or disclose this material are restricted by the Rights in Technical Data-Noncommercial Items clauses (DFAR 252-227.7013 and DFAR 252-227.7013 Alternate I) contained in the above identified contract.  Any reproduction of this material or portions thereof marked with this legend must also reproduce the disclaimers contained on this slide.  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Although the rights granted by contract do not require course attendance to use this material for U.S. Government purposes, the SEI recommends attendance to ensure proper understanding.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THE MATERIAL IS PROVIDED ON AN “AS IS” BASIS, AND CARNEGIE MELLON DISCLAIMS ANY AND ALL WARRANTIES, IMPLIED OR OTHERWISE (INCLUDING, BUT NOT LIMITED TO, WARRANTY OF FITNESS FOR A PARTICULAR PURPOSE, RESULTS OBTAINED FROM USE OF THE MATERIAL, MERCHANTABILITY, AND/OR NON-INFRINGEMENT).  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9Z</dcterms:modified>
  <cp:revision>215</cp:revision>
  <dc:subject/>
  <dc:title>No Slide Title</dc:title>
</cp:coreProperties>
</file>